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3B9E2-1085-4E3F-8CBB-7EFD6851A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75A5D-9BB2-4BC6-88CA-C3A800E0B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0A6B7-24D8-4183-A5CD-3D36EA669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56F01-593B-4FD3-B08F-55784A78D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7D3E0D-8E61-4210-8FE1-077736F42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AF335-ED6B-4E70-9E19-E372B98F3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E7490-EBF2-4A57-9516-24E33984F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D9A2E-723D-4A80-B757-B36080723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B0D5A-7D5D-4F50-A0FF-2D9E92DA7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64196-35D1-450B-9822-5AD8BDF7A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55077-8816-4FCE-B478-A3A1391C0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52A92-6846-429C-AB97-EF4268F59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00567-F842-435D-8A26-DD62333FA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7C068-9519-4B28-8E4B-6FC5CA221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EA408-1FB6-4487-AB92-4EB216BD9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8D4F4-BA6E-4382-B494-186AF14E4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D1888-113C-421D-A029-42CDC0193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5B36B-BE70-4A47-AC8A-A8ECAC315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8E5B0-747A-4C90-A754-98C27056D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81E34-B3D9-45E7-98DD-A083E0D46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C2DCE-C61D-419D-83D7-1890146B0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AA34D-B217-4F7D-8967-90DA56627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D494D-5409-4EA6-A2FC-1D56903EF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CFD16-10CD-439E-86C0-A4469768A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34F5-9F47-4F08-8380-58C94F6DAA1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0993-AECE-490A-95B2-E30710679B6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0</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x Credits</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x credits would indirectly divert some public funds to the support of nonpublic school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er Schools</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er schools are publicly financed but largely independent schools.  They generally are created around a specific teaching philosophy, subject areas, or other special emphasis and attract students throughout a district who want an alternative to the regular public school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oversy Not Solved</a:t>
            </a:r>
            <a:endParaRPr b="1" lang="en-US" sz="3600" spc="-1" strike="noStrike">
              <a:solidFill>
                <a:srgbClr val="006666"/>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hurch-state controversy has had and will continue to have an important effect on state school finance systems.  Nonpublic schools, like public schools, are being adversely affected by continually rising costs, which sometimes force nonpublic schools to discontinue their services.  This places a greater financial burden on the public shcool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oversial Issue</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urts have usually disallowed direct state financial support to private and parochial schoo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oversial Issue</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609480" indent="-60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ose who favor direct public aid to nonpublic schools base their arguments on the following:</a:t>
            </a:r>
            <a:endParaRPr b="0" lang="en-US" sz="2400" spc="-1" strike="noStrike">
              <a:solidFill>
                <a:srgbClr val="003366"/>
              </a:solidFill>
              <a:latin typeface="Arial"/>
            </a:endParaRPr>
          </a:p>
          <a:p>
            <a:pPr lvl="2" marL="1371600" indent="-457200">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ents should have freedom of choice in the education of their children.</a:t>
            </a:r>
            <a:endParaRPr b="0" lang="en-US" sz="1800" spc="-1" strike="noStrike">
              <a:solidFill>
                <a:srgbClr val="003366"/>
              </a:solidFill>
              <a:latin typeface="Arial"/>
            </a:endParaRPr>
          </a:p>
          <a:p>
            <a:pPr lvl="2" marL="1371600" indent="-457200">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is o evidence to support the fear that divisiveness in education will be caused by the existence and operation of nonpublic schools.</a:t>
            </a:r>
            <a:endParaRPr b="0" lang="en-US" sz="1800" spc="-1" strike="noStrike">
              <a:solidFill>
                <a:srgbClr val="003366"/>
              </a:solidFill>
              <a:latin typeface="Arial"/>
            </a:endParaRPr>
          </a:p>
          <a:p>
            <a:pPr lvl="2" marL="1371600" indent="-457200">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failure of nonpublic schools would create a tremendous impact on the financing of public education.</a:t>
            </a:r>
            <a:endParaRPr b="0" lang="en-US" sz="1800" spc="-1" strike="noStrike">
              <a:solidFill>
                <a:srgbClr val="003366"/>
              </a:solidFill>
              <a:latin typeface="Arial"/>
            </a:endParaRPr>
          </a:p>
          <a:p>
            <a:pPr lvl="2" marL="1371600" indent="-457200">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free exercise clause of the First Amendment allows such action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oversial Issue</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609480" indent="-6094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ponents of direct aid to nonpublic schools argue that:</a:t>
            </a:r>
            <a:endParaRPr b="0" lang="en-US" sz="2800" spc="-1" strike="noStrike">
              <a:solidFill>
                <a:srgbClr val="003366"/>
              </a:solidFill>
              <a:latin typeface="Arial"/>
            </a:endParaRPr>
          </a:p>
          <a:p>
            <a:pPr lvl="2" marL="1371600" indent="-457200">
              <a:lnSpc>
                <a:spcPct val="90000"/>
              </a:lnSpc>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ochial aid represents a backward step, since this country once maintained such a system of education but has since altered the concept.</a:t>
            </a:r>
            <a:endParaRPr b="0" lang="en-US" sz="2000" spc="-1" strike="noStrike">
              <a:solidFill>
                <a:srgbClr val="003366"/>
              </a:solidFill>
              <a:latin typeface="Arial"/>
            </a:endParaRPr>
          </a:p>
          <a:p>
            <a:pPr lvl="2" marL="1371600" indent="-457200">
              <a:lnSpc>
                <a:spcPct val="90000"/>
              </a:lnSpc>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ivate schools tend to discriminate against students in terms of race and religious background.</a:t>
            </a:r>
            <a:endParaRPr b="0" lang="en-US" sz="2000" spc="-1" strike="noStrike">
              <a:solidFill>
                <a:srgbClr val="003366"/>
              </a:solidFill>
              <a:latin typeface="Arial"/>
            </a:endParaRPr>
          </a:p>
          <a:p>
            <a:pPr lvl="2" marL="1371600" indent="-457200">
              <a:lnSpc>
                <a:spcPct val="90000"/>
              </a:lnSpc>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ch a practice violates the establishment clause of the First Amendment.</a:t>
            </a:r>
            <a:endParaRPr b="0" lang="en-US" sz="2000" spc="-1" strike="noStrike">
              <a:solidFill>
                <a:srgbClr val="003366"/>
              </a:solidFill>
              <a:latin typeface="Arial"/>
            </a:endParaRPr>
          </a:p>
          <a:p>
            <a:pPr lvl="2" marL="1371600" indent="-457200">
              <a:lnSpc>
                <a:spcPct val="90000"/>
              </a:lnSpc>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lution of the problem should be based on principle, not on economic consider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w and Church-State Relations</a:t>
            </a:r>
            <a:endParaRPr b="1" lang="en-US" sz="32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gal Provisions for separa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 Constitution Article IV, Section 3, and especially the First Amendment that was include in 1971 placed in U.S. law the principles of freedom of religion and separation of church and stat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ticle VI provides that “no religious test should ever be required as a qualification to any office our public trust under the U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irst Amendment declares Congress shall make no law respecting an establishment of religion, or prohibiting the free exercise thereof.</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w and Church-State Relations</a:t>
            </a:r>
            <a:endParaRPr b="1" lang="en-US" sz="32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inciple of separation has generally been observed, but interpretation of it has sometimes changed,  The courts have sometimes supported a child-benefit theory and some forms of tax credit payments for elementary and secondary school students, if such action passed the </a:t>
            </a:r>
            <a:r>
              <a:rPr b="0" i="1" lang="en-US" sz="2800" spc="-1" strike="noStrike">
                <a:solidFill>
                  <a:srgbClr val="003366"/>
                </a:solidFill>
                <a:latin typeface="Arial"/>
              </a:rPr>
              <a:t>Lemon</a:t>
            </a:r>
            <a:r>
              <a:rPr b="0" lang="en-US" sz="2800" spc="-1" strike="noStrike">
                <a:solidFill>
                  <a:srgbClr val="003366"/>
                </a:solidFill>
                <a:latin typeface="Arial"/>
              </a:rPr>
              <a:t> te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l Choice</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egative claims against the public schools have included their aleged discrimination against the gifted and the disabled, their presumed failure to teach students fundamental skills, and their reputation for fostering inequality among the races and between the sex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and numerous other charges have resulted in various proposals for radical changes in the organization and administration of school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l Choice</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blic schools offer some choices for students, including open enrollment, magnet schools, cooperation with home schools, postsecondary concurrent programs, schools within a school, alternative schools in and out of the district, high school graduation incentives, charter schools, and area learning center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ents are looking for more freedom in selection outside the public school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eas of choice that are most prevalent in the country center on vouchers, tax credits, and charter school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l Vouchers</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claimed that such an arrangement would allow parents a choice among the educational programs available to their children by paying the amount required above the cost allowed by the voucher.  The schools could be of any type – private, parochial, or public – provided they met the established state standard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20:48Z</dcterms:created>
  <dc:creator>Cynthia Altemueller</dc:creator>
  <dc:description/>
  <dc:language>en-US</dc:language>
  <cp:lastModifiedBy>AEURY</cp:lastModifiedBy>
  <dcterms:modified xsi:type="dcterms:W3CDTF">2006-01-27T22:13:33Z</dcterms:modified>
  <cp:revision>3</cp:revision>
  <dc:subject/>
  <dc:title>Finance in Education</dc:title>
</cp:coreProperties>
</file>